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7408-53EA-484B-BD4A-6FC12C5D1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9536-6D8D-4CBC-8249-B47CA246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2C98-4CA7-4033-85B1-137536196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F6C7-677A-4D63-9F38-B368E52BE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F2B8-FA1E-48DC-802A-00B95BEB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EFCF-A932-4280-A3D5-25CE11ED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421D-4974-43D7-9D87-CE09F298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2CAF-9ACF-40BD-89DF-95D59232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A989-EF8E-488D-90E0-97F3DB0B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5AD0-E113-430A-95FE-5E95A00F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6DA6-AF8E-4CEA-BDE6-579EE50D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8184-E0B3-4481-AAA9-6FE19821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A04E-0547-4885-86AC-41EDF1664A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2"/>
          <p:cNvSpPr/>
          <p:nvPr/>
        </p:nvSpPr>
        <p:spPr>
          <a:xfrm>
            <a:off x="990720" y="106668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0000"/>
                </a:solidFill>
                <a:latin typeface="Britannic Bold"/>
                <a:ea typeface="Gisha"/>
              </a:rPr>
              <a:t>Hacemos Conexió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990720" y="0"/>
            <a:ext cx="81532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Dios en su amor nos mostró cual pastor,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en Cristo  Él nos di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o la salvación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y con su sangre el hijo el precio pag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ó 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para hacer con el Padre una conexión.</a:t>
            </a:r>
            <a:br>
              <a:rPr sz="3100"/>
            </a:b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ro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desde el Padre y su santi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y unidos en Cristo, la eterna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hacemos conexión con la humanidad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1"/>
          <a:stretch/>
        </p:blipFill>
        <p:spPr>
          <a:xfrm>
            <a:off x="7634160" y="5410080"/>
            <a:ext cx="1478160" cy="1447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2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380880" y="189000"/>
            <a:ext cx="830592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Danos Jesús de tu perfecto am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haz con nosotros esa conexión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que tu Palabra ponga en nosotros ferv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y al perdido alcancemos llenos de tu unción.</a:t>
            </a:r>
            <a:br>
              <a:rPr sz="3500"/>
            </a:br>
            <a:br>
              <a:rPr sz="3500"/>
            </a:br>
            <a:r>
              <a:rPr b="1" lang="es-ES" sz="3000" spc="-1" strike="noStrike">
                <a:solidFill>
                  <a:srgbClr val="c0504d"/>
                </a:solidFill>
                <a:latin typeface="Candara"/>
                <a:ea typeface="ＭＳ Ｐゴシック"/>
              </a:rPr>
              <a:t>Coro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desde el Padre y su sant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y unidos en Cristo, la eterna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hacemos conexión con la humanidad.</a:t>
            </a:r>
            <a:br>
              <a:rPr sz="3000"/>
            </a:b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Gisha"/>
              </a:rPr>
              <a:t>Hacemos conexi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ón 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9:03:58Z</dcterms:created>
  <dc:creator>Blanca</dc:creator>
  <dc:description/>
  <dc:language>en-US</dc:language>
  <cp:lastModifiedBy>Ramon </cp:lastModifiedBy>
  <dcterms:modified xsi:type="dcterms:W3CDTF">2011-01-07T23:14:08Z</dcterms:modified>
  <cp:revision>9</cp:revision>
  <dc:subject/>
  <dc:title>Dios en su amor nos mostró cual pastor, en Cristo  Él nos dio la salvación y con su sangre el hijo el precio pagó  para hacer con el Padre una conexión. Coro Un enlace de amor y verdad desde el Padre y su santidad  y unidos en Cristo, la eterna verdad hacemos conexión con la humanidad.</dc:title>
</cp:coreProperties>
</file>